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DA03-74FE-4478-B1FC-F3BB030B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830F-B1D3-46A8-9A24-7052769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64D1-A5EA-47F1-B929-5B576AA6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BADD-9F82-456B-B570-E7193F70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635E-5699-44F6-9CED-00818699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DBF0-711A-421A-9C74-21C86032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486E-4D67-4423-A114-4825776C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2D0A-B899-4C92-8798-63B09F62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D283-F6D1-4F42-9B73-6A515312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F3BA-0E01-4F49-BBCE-2B040EDB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9143-FB10-4D41-B442-6D05D5A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2F85-C3E2-4A9E-A3BA-070A94F4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13FB-6EB6-4320-AE04-0A2B11CE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18DA-FEAF-48C7-9F96-83AA8AA4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98C7-BD02-42F8-9EE9-D1590674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EE3F-DDB9-4330-9801-E1B1335F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AE9A-8D1B-4903-8A96-10B32E2B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1067-5BE8-4661-A803-233D84A3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885E-26D8-40E1-814F-91B39913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E441-EE9E-4A57-9BCC-A9BF9DCA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9C8A-B0F5-4CFC-B8FA-05F683D2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E27D-5C1A-44C6-8D5C-766F415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DB30-635C-4185-BFA9-F852ECA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E061-0AD9-4679-9B97-75D49E73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E9F9-63C9-4D9A-A203-69751F5B21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AE9E-6615-4D27-9213-494BCF34A3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sychology.emory.ed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utobiographical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9520" y="388620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amira I. Serrano Card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f. Dr. Evelyn Lu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lish 126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psychology.emory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experiencefestival.com/autobiograph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kristisiegel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e5e5ff"/>
                </a:solidFill>
                <a:latin typeface="Garamond"/>
              </a:rPr>
              <a:t>Autobiographic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Garamond"/>
              </a:rPr>
              <a:t>Autobiographical 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is a memory system consisting of episodes recollected from an individual’s life, based on a combination of personal experiences and specific objects, people and events experienced at particular time and place general knowledge and facts about the wor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e5e5ff"/>
                </a:solidFill>
                <a:latin typeface="Garamond"/>
              </a:rPr>
              <a:t>Autobiographical Typ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Biographical or Personal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: often contain biographical information pertaining to who you are, such as where you were born or the names of your par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Copies vs. Reconstructions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: Copies are vivid autobiographical memories of an experience that contain a considerable amount of visual and sensory-perceptual detail. Reconstructions are autobiographical memories that are not reflections of raw experiences but are rebuilt to incorporate any new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e5e5ff"/>
                </a:solidFill>
                <a:latin typeface="Garamond"/>
              </a:rPr>
              <a:t>Autobiographical Typ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Specific vs. Generic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: Specific autobiographical contain a detailed memory of a certain event, while generic autobiographical are vague and hold little detail other than the type of event that occurr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Field vs. Observer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: Field memories are from a first-person point of view. Observer memories are a third-person point of vie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The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ical autobiographies were written mostly by men, and it was not until mid-1970s, women's autobiographies were taken serious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Film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movies and television series recount tales of recollected memories, especially autobiographical memories in which the narrator recounts a significant time or event in their life. Examp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Fil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Garamond"/>
              </a:rPr>
              <a:t>The Butterfly Effect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, starring </a:t>
            </a: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Ashton Kutcher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 involves a college student travelling through his memories in order to correct the events of his life that have gone wro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Garamond"/>
              </a:rPr>
              <a:t>Total Recall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, starring </a:t>
            </a: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Arnold Schwarzenegger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 references the implanting of false memo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Fil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Garamond"/>
              </a:rPr>
              <a:t>Click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, starring </a:t>
            </a:r>
            <a:r>
              <a:rPr b="0" i="1" lang="en" sz="3200" spc="-1" strike="noStrike">
                <a:solidFill>
                  <a:srgbClr val="ffffff"/>
                </a:solidFill>
                <a:latin typeface="Garamond"/>
              </a:rPr>
              <a:t>Adam Sandler</a:t>
            </a:r>
            <a:r>
              <a:rPr b="0" lang="en" sz="3200" spc="-1" strike="noStrike">
                <a:solidFill>
                  <a:srgbClr val="ffffff"/>
                </a:solidFill>
                <a:latin typeface="Garamond"/>
              </a:rPr>
              <a:t> told the story of a man who came across a remote control which allowed him to fast-forward and rewind to various stages and events in his lif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59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obiographical Fil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ffff"/>
                </a:solidFill>
                <a:latin typeface="Garamond"/>
              </a:rPr>
              <a:t>Inception</a:t>
            </a:r>
            <a:r>
              <a:rPr b="0" lang="en" sz="2800" spc="-1" strike="noStrike">
                <a:solidFill>
                  <a:srgbClr val="ffffff"/>
                </a:solidFill>
                <a:latin typeface="Garamond"/>
              </a:rPr>
              <a:t>, starring </a:t>
            </a:r>
            <a:r>
              <a:rPr b="0" i="1" lang="en" sz="2800" spc="-1" strike="noStrike">
                <a:solidFill>
                  <a:srgbClr val="ffffff"/>
                </a:solidFill>
                <a:latin typeface="Garamond"/>
              </a:rPr>
              <a:t>Leonardo di Caprio</a:t>
            </a:r>
            <a:r>
              <a:rPr b="0" lang="en" sz="2800" spc="-1" strike="noStrike">
                <a:solidFill>
                  <a:srgbClr val="ffffff"/>
                </a:solidFill>
                <a:latin typeface="Garamond"/>
              </a:rPr>
              <a:t> involved a team of people who venture into people's dreams and memories in order to find out in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A man in a suit with a gun in his right hand is flanked by five other individuals in the middle of a street which, behind them, is folded upwards. Leonardo DiCaprio's name and those of other cast members are shown above the words &quot;YOUR MIND IS THE SCENE OF THE CRIME&quot;. The title of the film &quot;INCEPTION&quot;, film credits, and theatrical and IMAX release dates are shown at the bottom."/>
          <p:cNvPicPr/>
          <p:nvPr/>
        </p:nvPicPr>
        <p:blipFill>
          <a:blip r:embed="rId1"/>
          <a:stretch/>
        </p:blipFill>
        <p:spPr>
          <a:xfrm>
            <a:off x="5334120" y="1752480"/>
            <a:ext cx="298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1:46:14Z</dcterms:created>
  <dc:creator>Admin</dc:creator>
  <dc:description/>
  <dc:language>en-US</dc:language>
  <cp:lastModifiedBy>Admin</cp:lastModifiedBy>
  <dcterms:modified xsi:type="dcterms:W3CDTF">2011-03-07T03:18:52Z</dcterms:modified>
  <cp:revision>11</cp:revision>
  <dc:subject/>
  <dc:title>Autobiographical </dc:title>
</cp:coreProperties>
</file>